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3FF-25E0-4757-91A8-9F7C9898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113-57E3-4F49-B15F-A5220B5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FEA-7588-4F1D-9B96-7DD4B365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EFA-BB9A-414E-8A3B-673329E0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FBA-22AD-4CD5-8160-03E3C28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FE8-7A67-48D7-BB9C-71E0746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8C0-0DC3-498C-A0C9-06A6483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EF1-D206-4974-B22B-E10A4FF2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FE5-26E9-41CA-8545-1EA6976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183-DF1C-40D5-8864-3E7A053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FC0-8598-49F9-83AF-9FADDC3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395-84A8-43CE-BD3C-3D80E95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03FC-6162-494E-A406-5029DCE0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0 Pozri len, poz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ri len, pozr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ojho Pán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je pre t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golgotská drám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e viny trpel Syn Bož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voj hriech Ote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vlo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ri len, pozri na jeho rany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ŕňovým ven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runova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ápený, bitý na kríži zmier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á úzk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mu zvie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naše v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Pán spla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mohol Otcovi vrá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ásluhách svoji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hajca pr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ruku dáva na domov sláv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ho, kto srd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vzdá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vedie k cieľu vytúženém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Otcovmu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ľný je prístup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smie v ňom ná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u ist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8:07Z</dcterms:modified>
  <cp:revision>31</cp:revision>
  <dc:subject/>
  <dc:title>Je veľký náš Pán, on slávy je Kráľ Nech do všetkých strán  spev vrúcnych znie chvál.</dc:title>
</cp:coreProperties>
</file>